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211-768C-4B33-BA95-A8D657C27D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799D-21C9-4908-94D1-7840C08425E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5BD-F7D6-472D-BE78-907EAFEE75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653-8EF7-48ED-9CDB-B40BAACDA6C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499B-A22E-47D1-8E83-D3FCDC98267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6E7D-0431-48BC-A271-D36C0C637A3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676-829C-4590-86B9-62066E5DD99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C31-7BD7-44E2-9582-77530EF304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EA4-78AF-4A74-9F11-58AB03BD8BF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3FC-0EA0-463F-9375-1BD16A885E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1717-ACD4-4E47-9C66-F99D7EE00F0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witter.com/search?q=http%3A%2F%2Fwww.studyingstyle.com%2F" TargetMode="External"/><Relationship Id="rId2" Type="http://schemas.openxmlformats.org/officeDocument/2006/relationships/hyperlink" Target="http://www.studyingstyle.com/" TargetMode="External"/><Relationship Id="rId3" Type="http://schemas.openxmlformats.org/officeDocument/2006/relationships/hyperlink" Target="http://www.studyingstyle.com/tactile-kinesthetic-learners.html#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57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4c6d"/>
                </a:solidFill>
                <a:latin typeface="Arial"/>
                <a:ea typeface="Arial"/>
              </a:rPr>
              <a:t>Three Types of Learning Styl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63640" y="2742840"/>
            <a:ext cx="11353680" cy="607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1.  visual (learn by see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2.  auditory (learn by hear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 Bold"/>
                <a:ea typeface="Verdana Bold"/>
              </a:rPr>
              <a:t>3.  tactile / kinesthetic (learn by doing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No-one uses only one of the styles, and at times we use all three learning style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317520" indent="-3175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 </a:t>
            </a: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Each person is born with a tendency toward one styl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Young children are all kinesthetic learners, visual and auditory skills develop later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The dominant style may not always be the same.  It may vary or be combined with other learning styles, depending on the activit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304560"/>
            <a:ext cx="1046448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SUGGESTIONS FOR TACTILE-KINESTHETIC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reate a mode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emonstrate a principl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actice a techniqu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 in simul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gage in hands-on activiti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Study in comfortable position, not necessarily sitting in a chai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Study Tip Suggest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Get hands on-in labs for example-don't just watch someone else do i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models to study-of the human brain, DNA, etc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raw charts or diagrams of relationship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kim through reading material to get a rough idea of what it's about before looking for detail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finger or bookmark as a guide while read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rite, copy, underline and highlight with bright color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ace letters and words to learn spelling and to remember fac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the computer to edit and rewrite lecture no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ake frequent study break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rite out everyth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ansfer reduced information to flashcard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ove around to learn new things (i.e. read while walking or on an exercise bike, mold a piece of clay to learn a new concept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ork in a standing posi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or brainstorm while walking or working 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with a friend or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a non-distracting movement while you learn (i.e. tapping pencil, shaking foot, chewing gum, holding something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hew a different flavor of gum with each subject you stud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ry listening to non-distracting music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musical rhythms for memorization patter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ake rearranging items a physical activity (don't draw connecting arrows-put them on separate cards to physically rearrang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write information to be remember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Act things out (use gestures when speaking, point to material being read or discussed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PREFERRED TEST STYLES FOR TACTILE-KINESTHETIC LEARNERS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ultiple choice, short definitions fill in the blank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WORST TEST TYPE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ong essay tes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24c6d"/>
                </a:solidFill>
                <a:latin typeface="Verdana"/>
                <a:ea typeface="Verdana"/>
              </a:rPr>
              <a:t>POSSIBLE CAREER PATHS</a:t>
            </a:r>
            <a:br>
              <a:rPr sz="1300"/>
            </a:b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ancers, physical education teachers, actors, firefighters, athletes, mim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397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1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33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RL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studyingstyle.c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as been shared 4 times.View these Tweet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Shar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c6d"/>
                </a:solidFill>
                <a:latin typeface="Arial"/>
                <a:ea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7c7c7"/>
                </a:solidFill>
                <a:latin typeface="Verdana"/>
                <a:ea typeface="Verdan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Web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StudyingStyle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eee"/>
                </a:solidFill>
                <a:uFillTx/>
                <a:latin typeface="Arial"/>
                <a:ea typeface="Arial"/>
              </a:rPr>
              <a:t>Learning Styles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y is it important?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ree Learning Styl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arning Style quiz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sual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uditory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ctile-Kinesthetic Learner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dvice for Paren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 Bold"/>
                <a:ea typeface="Arial Bold"/>
              </a:rPr>
              <a:t>Ads by Googl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HD Study Onlin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arner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sters Stud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ance Stud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8720" y="-360"/>
            <a:ext cx="1196352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4c6d"/>
                </a:solidFill>
                <a:latin typeface="Arial"/>
                <a:ea typeface="Arial"/>
              </a:rPr>
              <a:t>Why should you know your learning style?</a:t>
            </a:r>
            <a:br>
              <a:rPr sz="19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68560" y="1828440"/>
            <a:ext cx="1046448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You are a unique learner.  No one else learns in exactly the same way you d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b2b2b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There are many benefits to discovering how you process information best.  Some of these includ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4c6d"/>
                </a:solidFill>
                <a:latin typeface="Verdana"/>
                <a:ea typeface="Verdana"/>
              </a:rPr>
              <a:t>At School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a head start and maximizes your learning potenti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ables you to succeed in school, college, universit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customized techniques to score better on tests and exam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allows you to learn “your way” – through your own best strate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shows you how to overcome the limitations of poor instructo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duces the stress and frustration of learning experienc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xpands your existing learning and studying strate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4c6d"/>
                </a:solidFill>
                <a:latin typeface="Verdana"/>
                <a:ea typeface="Verdana"/>
              </a:rPr>
              <a:t>Personal Lif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ncreases your self-confid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mproves your self-im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teaches you how to use your brain be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gives you insight into your strengths, weaknesses and habi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ables you to enjoy any learning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nspires greater curiosity, motivation for lifelong lear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shows you how to take advantage of your natural skills &amp; inclin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4160" y="0"/>
            <a:ext cx="10464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br>
              <a:rPr sz="8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ke up about 65% of popu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68560" y="2666520"/>
            <a:ext cx="1046448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his Is Your Learning Style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Need to be able to see the inform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Difficulty following spoken directions (prefers written direction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Strong sense of colo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May be easily distracted by sound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rouble following lec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Misunderstands or misinterprets spoken materi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think in images or pictures (even visualizes notes or outlin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Artistic talent in the visual ar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have vivid imagin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Needs something to watch so may tend to sta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quiet or not lengthy talk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Becomes impatient or drifts away when extensive listening requir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earns by seeing and watching demonstra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conform to classroom standards (such as sitting quietly, writing neatly, organizing material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ffective in written communication, symbol manipulation, etc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44160" y="533160"/>
            <a:ext cx="1046484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35040" y="1523880"/>
            <a:ext cx="11506320" cy="822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eorgia"/>
                <a:ea typeface="Verdana"/>
              </a:rPr>
              <a:t>TIPS FOR VISUAL LEARNE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rite things down!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Jot down key points on post-it notes and display around the hou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Copy what's on the boar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Sit near the front of the classroom to see instructor clear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Look at professors and others when they talk to help you focus and to pick up on body langu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rite key wor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Use outlines to summarize large amounts of inform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Use highlighters, underlining, circling, etc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</a:rPr>
              <a:t>Draw pictures in notes to illustrate ideas (maps, sketches, lists, diagrams,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2b"/>
                </a:solidFill>
                <a:latin typeface="Georgia"/>
                <a:ea typeface="Verdana"/>
              </a:rPr>
              <a:t>Watch vide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Borrow others' notes, compare to ow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Use a plastic cover with erasable markers to label diagrams over and over, or to test yourself writing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answers to ques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b2b2b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Rewrite or redraw things from memor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Visualize spelling of words or facts to be memoriz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ake and use flashcards for studying (vocabulary, formulas, condensed notes,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Use computers to organize material and to create graphs, tables, ch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Study in a quiet place away from verbal disturban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ake your study area visually appeal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20480" y="609120"/>
            <a:ext cx="1046484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isual Learn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29760" y="2361960"/>
            <a:ext cx="12268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0000"/>
          </a:bodyPr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REFERRED TEST STYLES FOR VISUAL LEARNE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Essays, Diagramming, Maps, Demonstrating a proces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WORST TEST TYPE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Listen and respon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OSSIBLE CAREER PATH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visual artists, inventors, architects, interior designers, mechanics, engineers, navigators, sculptor</a:t>
            </a:r>
            <a:r>
              <a:rPr b="0" lang="en-US" sz="2800" spc="-1" strike="noStrike">
                <a:solidFill>
                  <a:srgbClr val="2b2b2b"/>
                </a:solidFill>
                <a:latin typeface="Verdana"/>
                <a:ea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72760" y="609120"/>
            <a:ext cx="10464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224c6d"/>
                </a:solidFill>
                <a:latin typeface="Arial"/>
                <a:ea typeface="Arial"/>
              </a:rPr>
              <a:t>Auditory Learners</a:t>
            </a:r>
            <a:br>
              <a:rPr sz="1900"/>
            </a:br>
            <a:r>
              <a:rPr b="0" lang="en-US" sz="2400" spc="-1" strike="noStrike">
                <a:solidFill>
                  <a:srgbClr val="2b2b2b"/>
                </a:solidFill>
                <a:latin typeface="Verdana"/>
                <a:ea typeface="Verdana"/>
              </a:rPr>
              <a:t>Making up about 30% of the population, </a:t>
            </a:r>
            <a:r>
              <a:rPr b="0" lang="en-US" sz="2400" spc="-1" strike="noStrike">
                <a:solidFill>
                  <a:srgbClr val="2b2b2b"/>
                </a:solidFill>
                <a:latin typeface="Verdana Bold"/>
                <a:ea typeface="Verdana Bold"/>
              </a:rPr>
              <a:t>auditory learners</a:t>
            </a:r>
            <a:r>
              <a:rPr b="0" lang="en-US" sz="2400" spc="-1" strike="noStrike">
                <a:solidFill>
                  <a:srgbClr val="2b2b2b"/>
                </a:solidFill>
                <a:latin typeface="Verdana"/>
                <a:ea typeface="Verdana"/>
              </a:rPr>
              <a:t> absorb information best through the sense of hearin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97160" y="2361960"/>
            <a:ext cx="10464480" cy="111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his Is Your Learning Style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xcellent listen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Prefers to get information by listening- needs to hear it or speak it to know 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Written directions more difficult to follow than spoken 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Prefers listening to reading or writ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Has difficulty reading body language and facial express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reproduce symbols, letters or words by hearing the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Good at telling  jokes and stor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Enjoys plays, discussions &amp; deba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oves musi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learn concepts by listening to tap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Often hum s, sings or talks to self or oth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Can repeat or fulfill verbal instructio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earning phonics helpful to read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Tends to listen first to lecture and then take no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Written information may have little meaning unless read alou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Solves problems by talking about the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Likes class discussions but can be easily distracted by noi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Enjoys talking to others, talkative in cla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 giving oral reports to written 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member who said what in the pa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Tend to memorize w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 listening to the news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member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Notices sound effects in mov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Doesn’t automatically understand graphs, diagrams or map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May use finger as pointer when read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Is good at grammar and foreign languag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peat phone numbers in order to repeat them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Uses jingles to remember pieces of inform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Benefits from study group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Prefers to listen to music rather than view a piece of a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Reads slow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May be articulate speake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2b2b2b"/>
              </a:buClr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Verdana"/>
                <a:ea typeface="Verdana"/>
              </a:rPr>
              <a:t>Can’t keep quiet for lo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0480" y="228600"/>
            <a:ext cx="1046484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4c6d"/>
                </a:solidFill>
                <a:latin typeface="Arial"/>
                <a:ea typeface="Arial"/>
              </a:rPr>
              <a:t>Auditory Learner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44160" y="1600200"/>
            <a:ext cx="1046484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Study Tip Suggest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udy in groups and talk things 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Get a small tape record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cord lectures, tutoring and study groups (makes a verbal record for review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duce lecture notes to main ideas (3:1) and put them on tap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texts out loud or into record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sten to lecture/text tapes while driv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ctate papers, to be typed lat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questions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Work out problems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it in the front of the cla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 by participating in class discussions and deba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Make speeches and presentat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reate musical jingles or mnemonics to aid memoriz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e verbal analogies and story telling to demonstrate your poi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ad explanations out 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o learn a sequence of steps, write them out in sentences, then read them alou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Explain ideas to other peopl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cite, recite, recit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scuss your ideas verbally whenever possible, even if you're having a conversation with yourself!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audiotapes for learning languag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ad textbooks alou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peat facts with eyes close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sk ques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escribe aloud what is to be remembere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word association to remember facts and line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Watch video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 in group discuss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isten to taped not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cord lectures &amp; listen to them agai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Use audiotap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void auditory distract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4160" y="83772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uditory Learn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20480" y="259056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REFERRED TEST STYLES FOR AUDITORY LEARNER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Writing responses to lectures, oral exam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WORST TEST TYPE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Reading comprehension exercis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Verdana"/>
              </a:rPr>
              <a:t>POSSIBLE CAREER PATHS</a:t>
            </a:r>
            <a:br>
              <a:rPr sz="3600"/>
            </a:br>
            <a:r>
              <a:rPr b="0" lang="en-US" sz="3600" spc="-1" strike="noStrike">
                <a:solidFill>
                  <a:srgbClr val="2b2b2b"/>
                </a:solidFill>
                <a:latin typeface="Verdana"/>
                <a:ea typeface="Verdana"/>
              </a:rPr>
              <a:t>Writer, journalist, teacher, lawyer, politician, blogger, translator, po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1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c6d"/>
                </a:solidFill>
                <a:latin typeface="Arial"/>
                <a:ea typeface="Arial"/>
              </a:rPr>
              <a:t>Tactile-Kinesthetic Learners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1942920"/>
            <a:ext cx="10464840" cy="79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king up about 5% of the population, tactile and kinesthetic learners absorb information best by doing, experiencing, touching, moving or being active in some way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feeling, discovery and ac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member by using tools, building models and manipulating thing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through emotions, touch, movement and spac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demonstrations of concept demonstr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ster skills through imitation and practic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Benefit from hands-on teaching techniqu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Find it difficult to sit still for long periods of tim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Remember who did what in the past, rather than what they said or how they looked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efer to stand, walk about or use large motor muscles when learn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well from field trips and excursion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ends to collect thing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Do not have good handwriting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Are weaker at spell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alk fast using hands to communicat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Benefit from role-playing and simulation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having background music while studying or work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ood at spor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ake frequent breaks when studying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Think in terms of physical ac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ay play a musical instrument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exploring the environmen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articipates in martial arts, dance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an grasp concepts when abstract theories are combined with practical experienc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Enjoy science experiments, construction games, arts ad craf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ould be considered hyperactiv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More relaxed and open to learning in a beanbag than a hard chai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ood internal compass for finding their way around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Get restless during long lectur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Comfortable touching others as a gesture of friendship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Prefer participating actively rather than watching  video or reading from a book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Learn more effectively when free to mov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2b2b"/>
                </a:solidFill>
                <a:latin typeface="Verdana"/>
                <a:ea typeface="Verdana"/>
              </a:rPr>
              <a:t>Studies effectively laying on floor or bed, fidgeting, tapping fingers or touching objec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1511"/>
                </a:solidFill>
                <a:latin typeface="Arial Bold"/>
                <a:ea typeface="Arial Bold"/>
              </a:rPr>
              <a:t>Clues to Sty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Preference for hands on learn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Can assemble parts without reading direct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Needs to be able to touch or manipulate what is being learn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Prefers to study with a pen or pencil in hand to write things d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Benefits from pictures or diagrams in no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ually don't have visuals in min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ends to be less organiz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ense of time difficult because they work better in the present moment rather than seeing the fu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Difficulty sitting stil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Focusing and listening to a lecture without doing something is difficul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Usually takes notes and likes to write on boar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do artwork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piece things togeth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Responds to music by physical movem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Often found doodl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ing is more effective when physical activity is involv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earns skills by imitation and practi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Likes to trace words and pictur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Often seen "fiddling" with someth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Tasks that require manipulating something usually more successfu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Georgia"/>
              </a:rPr>
              <a:t>Strong athletic tal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owlek</cp:lastModifiedBy>
  <dcterms:modified xsi:type="dcterms:W3CDTF">2011-09-07T21:13:16Z</dcterms:modified>
  <cp:revision>33</cp:revision>
  <dc:subject/>
  <dc:title>Three Types of Learning Styles</dc:title>
</cp:coreProperties>
</file>